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F420-802C-4E8F-BB7B-7E2D2C6F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66DF-D149-49A4-A1B9-801F8E02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31F-8426-4DA9-BCF3-E0C034110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072-8BDF-47E8-A28D-A869C777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pload.wikimedia.org/wikipedia/en/b/b4/Citric_acid_cycle_noi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8FF8-A36C-425F-8D1C-4D213998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7B1F-1A89-4C18-B20D-1CFFC301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D6EC-8592-4EAA-AEDA-057C57A56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9F9E-FFB9-40B5-908C-77F43AE099C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0CFB-4DF1-4E40-8D68-50FDBA465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8A8A-C013-429C-A489-E00CF009405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967E-7314-40DB-8B8E-40650776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8330-5B04-4C2E-AB1F-71346CAB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Yeast makes ethanol (biofuel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actate when not enough O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2560-7ABF-4B3B-90F1-BB2D8151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980-ECC7-4EB2-92ED-41FCD01F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867D-4BC7-4E9E-B3B9-679E053C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nzyme A is a vitamin B5 deri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CC06-35C1-410F-AB92-5EF3A047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74A-ABF4-4016-9E10-FAA13B11489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E67-E737-4D90-82EE-C3DB345E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F39-34CB-402A-A967-BEE7499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20A-D13C-4EDC-BC4C-83669C9D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146-655D-43CC-96C7-39927C58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2AF-E59C-45B2-A30A-1384C2B6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9F2-1DBD-4052-B99C-09EFB5AB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239-D525-43EB-BA1F-DAF59F4A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21B-2E7A-42EE-8B85-84DD039A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477-8F9A-44BE-9CF2-DBE394AA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B56-7A98-4787-9EC1-3D6E0E1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B5A-E39C-43E8-8332-1B382A2A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E4B-3082-491D-B597-C4E407F7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E267-5528-48C7-ADA8-06B16F605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43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5640" y="1628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ric Acid Cycle (Kreb’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ile:Lemon-edit1.jpg"/>
          <p:cNvPicPr/>
          <p:nvPr/>
        </p:nvPicPr>
        <p:blipFill>
          <a:blip r:embed="rId1"/>
          <a:stretch/>
        </p:blipFill>
        <p:spPr>
          <a:xfrm>
            <a:off x="2484360" y="3213000"/>
            <a:ext cx="44341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080" y="404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 (Krebs Cyc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440" y="2852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900000" y="1413000"/>
            <a:ext cx="748836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generate more high energy molecules (NADH,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itric_acid_cycle_noi"/>
          <p:cNvPicPr/>
          <p:nvPr/>
        </p:nvPicPr>
        <p:blipFill>
          <a:blip r:embed="rId1"/>
          <a:stretch/>
        </p:blipFill>
        <p:spPr>
          <a:xfrm>
            <a:off x="468360" y="87480"/>
            <a:ext cx="835164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kreb_cycle"/>
          <p:cNvPicPr/>
          <p:nvPr/>
        </p:nvPicPr>
        <p:blipFill>
          <a:blip r:embed="rId1"/>
          <a:stretch/>
        </p:blipFill>
        <p:spPr>
          <a:xfrm>
            <a:off x="3419640" y="1052640"/>
            <a:ext cx="5717880" cy="4902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4249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o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actions 3,4,6,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l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ric Acid Cycl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 cycles for EACH glucose molec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cetyl-Co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xaloacetate 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leas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 NADH produc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 FAD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produc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 ATP produced (per cyc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by now, 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el for the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electron transport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for making lots of 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ric Acid Cycle Summary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http://highered.mcgraw-hill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ttp://tinyurl.com/l9b9k4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confused about the Electron Transport Chain, this animation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ttp://tinyurl.com/nnabv9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R: 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5160" y="1052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tient is admitted unconscious. Mentioned that she had general weakness, giddiness, headaches, vertigo, confusion, and perceived difficulty in brea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reathing is now rapid and patient is entering a deep coma, with cherry red skin colour. You suspect cardiac arrest is co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83840" y="550548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File:ORNGE C--GYNH.JPG"/>
          <p:cNvPicPr/>
          <p:nvPr/>
        </p:nvPicPr>
        <p:blipFill>
          <a:blip r:embed="rId1"/>
          <a:stretch/>
        </p:blipFill>
        <p:spPr>
          <a:xfrm>
            <a:off x="5148360" y="4230720"/>
            <a:ext cx="3512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tient worked in at a gold mining site and there was a release of hydrogen cyan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39640" y="231156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yanid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n inhibitor of enzyme cytochrome c oxidase in the electron transport chain. It attaches to the iron within this protein. The binding of cyanide to this enzyme prevents transport of electrons from cytochrome c to oxygen (can’t use electron transport chain)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98960" y="5505480"/>
            <a:ext cx="62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happening to the pat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3.bp.blogspot.com/-MJisxWVfZPA/UEF_-1krN-I/AAAAAAAAr9s/PQMfuCq_phg/s1600/Metabolic_Pathways_for_plotter_landscape_quantized.pn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258560"/>
            <a:ext cx="626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tropine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eats bradycardia (a heart rate &lt; 60 beats per minu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ydroxocobalamin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vitamin B12a) binds with the cyanide to form the harmless cyanocobala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pinephri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Treat cardiac arrest, return of spontaneous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fibrillator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et the heart beat to a normal 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File:Syringe2.jpg"/>
          <p:cNvPicPr/>
          <p:nvPr/>
        </p:nvPicPr>
        <p:blipFill>
          <a:blip r:embed="rId1"/>
          <a:stretch/>
        </p:blipFill>
        <p:spPr>
          <a:xfrm>
            <a:off x="6902280" y="170028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File:Defibrillation Electrode Position.jpg"/>
          <p:cNvPicPr/>
          <p:nvPr/>
        </p:nvPicPr>
        <p:blipFill>
          <a:blip r:embed="rId2"/>
          <a:stretch/>
        </p:blipFill>
        <p:spPr>
          <a:xfrm>
            <a:off x="7037280" y="3789360"/>
            <a:ext cx="1841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pg 177-181 (ETC &amp; Chemiosm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 pg 182 # 4,8,9,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CellRespiration.svg"/>
          <p:cNvPicPr/>
          <p:nvPr/>
        </p:nvPicPr>
        <p:blipFill>
          <a:blip r:embed="rId1"/>
          <a:stretch/>
        </p:blipFill>
        <p:spPr>
          <a:xfrm>
            <a:off x="0" y="176040"/>
            <a:ext cx="907560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et Organ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085760"/>
          <a:ext cx="8713800" cy="5546880"/>
        </p:xfrm>
        <a:graphic>
          <a:graphicData uri="http://schemas.openxmlformats.org/drawingml/2006/table">
            <a:tbl>
              <a:tblPr/>
              <a:tblGrid>
                <a:gridCol w="1873080"/>
                <a:gridCol w="1436760"/>
                <a:gridCol w="1563840"/>
                <a:gridCol w="1979640"/>
                <a:gridCol w="1860480"/>
              </a:tblGrid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5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pla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yru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 A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A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 NA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83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 oxi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l matr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yruvate + 2 C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+ 2 acetyl-C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 NA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ric Acid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rebs cyc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l matr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acetyl-CoA +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A +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 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 AT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 NADH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 FAD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5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Transport Chain (Oxidative phosphoryl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l membr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4 A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(s) 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(g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(g) + 6 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l) + 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G = −2880 kJ per mol of C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CA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8 ATP molec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sp>
        <p:nvSpPr>
          <p:cNvPr id="57" name="Rectangle 4"/>
          <p:cNvSpPr/>
          <p:nvPr/>
        </p:nvSpPr>
        <p:spPr>
          <a:xfrm>
            <a:off x="2076480" y="1523880"/>
            <a:ext cx="6121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96920" y="2436840"/>
            <a:ext cx="6120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011320" y="4705200"/>
            <a:ext cx="612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96920" y="3228840"/>
            <a:ext cx="6678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065320" y="5516640"/>
            <a:ext cx="68817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09_18PyruvateInCatabolism_L"/>
          <p:cNvPicPr/>
          <p:nvPr/>
        </p:nvPicPr>
        <p:blipFill>
          <a:blip r:embed="rId1"/>
          <a:stretch/>
        </p:blipFill>
        <p:spPr>
          <a:xfrm>
            <a:off x="1619280" y="1278000"/>
            <a:ext cx="5545080" cy="5186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ile:Osaka07 D6A M200M nearfinish.jpg"/>
          <p:cNvPicPr/>
          <p:nvPr/>
        </p:nvPicPr>
        <p:blipFill>
          <a:blip r:embed="rId2"/>
          <a:stretch/>
        </p:blipFill>
        <p:spPr>
          <a:xfrm>
            <a:off x="71280" y="4221000"/>
            <a:ext cx="3205440" cy="238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File:S cerevisiae under DIC microscopy.jpg"/>
          <p:cNvPicPr/>
          <p:nvPr/>
        </p:nvPicPr>
        <p:blipFill>
          <a:blip r:embed="rId3"/>
          <a:stretch/>
        </p:blipFill>
        <p:spPr>
          <a:xfrm>
            <a:off x="71280" y="2133720"/>
            <a:ext cx="185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mitochondria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yruvate-oxidation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Oxidative decarboxylation of pyruv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decarboxy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ttachment of coenzyme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87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179280" y="1100160"/>
            <a:ext cx="7318440" cy="4214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4487400" y="5084640"/>
            <a:ext cx="38286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ruv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etyl-C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DH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Matt</cp:lastModifiedBy>
  <dcterms:modified xsi:type="dcterms:W3CDTF">2015-10-14T20:29:26Z</dcterms:modified>
  <cp:revision>92</cp:revision>
  <dc:subject/>
  <dc:title>Aerobic Cellular Respiration</dc:title>
</cp:coreProperties>
</file>